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BB61-32DD-4223-9C4B-2F97735726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ED23-B4CC-4C2F-9559-F11C7855A2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EDE3-24A5-4E70-BE15-AA266937EE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6DC2-D3B0-491E-8E00-303CF1A927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B441-B747-4249-B761-189EA8D115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2388-EB22-44EA-95D4-95945F52E6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D090-A4BA-4DA0-A235-2BB05A4A69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90B8-F2E5-4E4B-90CC-CC83B6C5A0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18DA-1B83-4178-A439-A92C38130C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A94C-E439-45FF-B1DB-AC069063AF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4E84-BA18-4956-8185-36C8625191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B231-65E1-4388-B31F-9F928AA5B4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42F9-147C-4028-96F1-333B97C15B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D818-871F-4CB0-A273-9F1E0DA6A8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F799-AE06-411F-8905-6D08509EC7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540E-52C0-4AB8-90EC-F0BB9282D3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0C39-0FBF-4F3B-A638-50BE1F12D3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D803-A1EE-4E89-898E-5EFD391FEA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EAF8-6DCD-4BB2-836A-177D2860AF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FE6A-E7B2-4BAB-9617-D3EA77809A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B415-F535-4412-A2B4-A507FB7E1B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B918-2017-473C-AB80-A25643D0AC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930C-A3CA-44EA-8E5E-9A0F520AB3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15C2-EBE3-4706-8B29-529D31F412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83D4-F1B7-4099-BC00-2F83D3F61A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FFD8B-D7D1-4CF3-A7A2-5C3C29698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1846440"/>
            <a:ext cx="914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9E56E-2601-447C-B7EB-5E0950774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156DB-A0E9-4835-B867-15C634B3B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98100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98100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184644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184644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184644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03E54-AA07-411D-B436-184FEC444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981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981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A0E74-CCA1-41F6-9F81-DA9E1AE5E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1846440"/>
            <a:ext cx="914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1846440"/>
            <a:ext cx="914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98100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98100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184644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184644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184644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BF6C4-4A0B-4F76-AADB-3F3E05953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6D9AA-E5C1-409A-90F3-FC00C598D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2AFD9-B364-4F5F-B1E3-825265867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EC893-4454-4823-9711-8F0FF4523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DBCFC-DA7D-4215-BE10-A0DB6D416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28F75-951D-487F-83F6-7C26B797A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1846440"/>
            <a:ext cx="914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BBA1D-E96C-4426-BC02-24685FBA9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32280"/>
            <a:ext cx="81723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245080" y="6624360"/>
            <a:ext cx="86364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0A53-593E-4044-B3CF-B356D58A6A2C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179280" y="177840"/>
            <a:ext cx="863640" cy="514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Новые возможности и преимущества «1С:Зарплата и Управление Персоналом 8» по сравнению с «1С:Зарплата и Кадры 7.7»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вод индивидуальных графиков работы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можно ввести индивидуальный график работы сотрудник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водится на очередной месяц: за каждый день или сводно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Автоматически заполняется по основному графику и редактируется вручную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187280" y="3284640"/>
            <a:ext cx="7686720" cy="3566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2852640"/>
            <a:ext cx="3600360" cy="35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87240" indent="-230040">
              <a:lnSpc>
                <a:spcPct val="90000"/>
              </a:lnSpc>
              <a:spcBef>
                <a:spcPts val="524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C8B42-ACA7-45E5-A3CF-B7DE4D2602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Гибкий (скользящий) график работы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можно использовать графики работы «со скользящими выходными»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очетание возможностей описания произвольных графиков работы и ежемесячно вводимых индивидуальных графиков позволяет вести учет времени сотрудников, работающих по графикам «со скользящими выходными»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20600" y="2494080"/>
            <a:ext cx="3514680" cy="424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3348000" y="3174840"/>
            <a:ext cx="5559480" cy="320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B111B-C826-42DB-8906-774BE34672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Документ «Табель учета рабочего времени»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документ должен заполняться ежемесячно, иначе зарплата работнику не может быть рассчитана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документ может вводиться по мере необходимости или ежемесячно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Если документ «Табель» отсутствует, отработанное время для расчета заработной платы определяется по основному или индивидуальному графику с учетом неявок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700360" y="3789360"/>
            <a:ext cx="5689440" cy="2887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3284640"/>
            <a:ext cx="80121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2A6BB-44F5-4894-A3D9-8774BF06F3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тчет «Табель учета рабочего времени»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5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отчет может быть получен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олько после расчета зарплаты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отчет текущего месяца формируется в любой момен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ля расчета аванса по фактической выработке за первую половину месяца предусмотрена возможность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регистрации табеля за первую половину месяца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с учетом введенных на момент заполнения документа данных об отклонениях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озможен ввод табеля за любой период в рамках расчетного месяца и получение печатной формы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за неоконченный месяц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условиях отсутствия данных о расчетах заработной платы используются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анные кадрового учет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990D8-7D86-4304-A372-FD9E32CA47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дельный наряд и фактически 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тработанное время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302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 документе «Сдельный наряд» существует возможность редактирования данных учета рабочего времен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780000" y="1197000"/>
            <a:ext cx="5194080" cy="51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26C52-50EA-4BBB-B320-A53C917B8F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оизвольные формулы расчета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176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для начисления можно указать произвольную формулу расчета с использованием до шести различных показателей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ользователи могут описать любое количество показателей расчет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211640" y="1052640"/>
            <a:ext cx="4865760" cy="552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FDAFC-4D67-423D-AE57-E00C8053D2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ериод расчета зарплаты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980640"/>
            <a:ext cx="8856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смена периода расчета зарплаты производится по строго определенному алгоритму действий после получения все выходные документ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орректировка данных прошедших периодов таит в себе много подводных камне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отсутствует жесткий регламент перехода как в последующий, так и в предыдущие расчетные период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и необходимости защиты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анных от несанкционированных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зменений вводится дата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запрета изменения данных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орректировка данных прошедших периодов проста и прозрачн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5308560" y="3789360"/>
            <a:ext cx="3727440" cy="169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7803-DE9A-4A08-A8F5-1A87C91E12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ванс за первую половину месяца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документ «Начисление заработной платы работникам организации» рассчитывает сумму аванса за первую половину месяца по фактической выработке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56000" y="2133720"/>
            <a:ext cx="6335280" cy="4560480"/>
            <a:chOff x="2556000" y="2133720"/>
            <a:chExt cx="6335280" cy="456048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2635200" y="2133720"/>
              <a:ext cx="6256080" cy="45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556000" y="2927880"/>
              <a:ext cx="2887200" cy="318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B9D19-9D94-49DB-9642-0071968BF7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налитическая отчетность 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 результатам расчето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5840" y="1052280"/>
            <a:ext cx="8929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се отчеты формируются не только за месяц, но и за любой период времен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Новый отчет «Анализ начислений работникам» позволяет анализировать величину заработка, суммы начисленного ЕСН и начислений, учитываемых при формировании проводок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763640" y="2185920"/>
            <a:ext cx="7051680" cy="44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A07CD-6A4C-4C9B-9C87-4B0EBA386A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войства и категории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Механизм свойств позволяет без конфигурирования произвольным образом расширять круг сведений о работниках, хранимых в И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Механизм категорий позволяет группировать и отбирать работников по произвольным критериям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900000" y="3429000"/>
            <a:ext cx="7345440" cy="336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3A26A-D686-4568-97B9-E5FD2AC719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 чем пойдет речь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равнительная характеристика функциональных возможностей конфигураций «Зарплата и Управление Персоналом» и «Зарплата и Кадры»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едение учета нескольких организаций в единой баз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адровый уче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чет использования рабочего времен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асчет заработной платы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тчетность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ервисные механизмы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2608E-C620-413E-B63F-DA64A566B4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адровая аналитическая отчетность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получение информации о сотрудниках возможно с помощью конструктора отчетов «Произвольные отчеты», что требует понимания основ программирования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отчет «Списки работников организации» позволяет получать полную аналитическую информацию о работниках, учитываемых в информационной базе, в различных аналитических разрезах, дорабатывать существующие и, с помощью простой настройки, формировать новые отчет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900000" y="1989000"/>
            <a:ext cx="7920000" cy="456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E5C17-AE82-4844-B075-2AF588DDFF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нализ начисленных налогов и взносо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специализированные средства анализа отсутствуют, некоторую информацию можно получить в расшифровках отчета «Расчет по ЕСН» либо с помощью дополнительных обработок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отчет «Анализ начисленных налогов и взносов» позволяет анализировать начисления по всем налогам и в разрезе каждого налога за любой выбранный перио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54200" y="1333440"/>
            <a:ext cx="7705440" cy="534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A9946-9968-4E2E-9A62-FCA333DC2F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Регламентированная отчетность для ФСС РФ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: Предусмотрена возможность выгрузки данных в конфигурацию «1С:Бухгалтерия 7.7», в которой заполняется расчетные ведомости по средствам фонда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реализованы расчетные ведомости по средствам фонда социального страхования РФ – формы 4-ФСС и 4а-ФСС и их автоматическое заполнение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87515-847D-4E70-9CCF-3FAAF48E3A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оверка соотношений показателей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74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для расчета по авансовым платежам по ЕСН и страховым взносам на обязательное пенсионное страхование реализован режим проверки соотношений показателей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619280" y="2421000"/>
            <a:ext cx="720072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7795C-D649-45E3-A8F3-440A736C0F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ерсонифицированный учет ПФР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ЗиК в целях создания архива переданных в ПФР сведений пользователь должен самостоятельно сохранять переданные в ПФР файлы на диске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ЗУП ведется архив переданных в ПФР сведений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spcAft>
                <a:spcPts val="799"/>
              </a:spcAft>
              <a:buSzPct val="1286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сле передачи данных в ПФР в ИБ сохраняются переданные в ПРФ файлы: в любой момент, не выходя из программы, можно увидеть, какие именно данные передавались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spcAft>
                <a:spcPts val="799"/>
              </a:spcAft>
              <a:buSzPct val="1286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Анкетные данные и данные о стаже сотрудников при этом не используются и могут быть изменены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395280" y="3284640"/>
            <a:ext cx="8534520" cy="2933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1332000" y="3284640"/>
            <a:ext cx="6676920" cy="3409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4000" y="981000"/>
            <a:ext cx="82548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106FF-EE2A-4888-B83C-A5FD8746E2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4788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ользователю предоставляется список его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текущих задач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539640" indent="-18072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адачи выявляются на основании анализа введенных данных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9640" indent="-18072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апоминания о запланированных ранее кадровых перемещениях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9640" indent="-18072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апоминания о днях рождения работников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9640" indent="-18072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адачи по перерасчету начислений или по доначисления зарплаты после отмены ошибочно введенного отклонения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9640" indent="-18072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вод документов-начислений на основании кадровых документов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9640" indent="-18072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ачисление зарплаты, расчет ЕСН и отражение зарплаты в учете для очередного месяц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93600" y="115920"/>
            <a:ext cx="8928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ервисные механизмы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932360" y="1413000"/>
            <a:ext cx="4119480" cy="4537080"/>
            <a:chOff x="4932360" y="1413000"/>
            <a:chExt cx="4119480" cy="4537080"/>
          </a:xfrm>
        </p:grpSpPr>
        <p:pic>
          <p:nvPicPr>
            <p:cNvPr id="178" name="" descr=""/>
            <p:cNvPicPr/>
            <p:nvPr/>
          </p:nvPicPr>
          <p:blipFill>
            <a:blip r:embed="rId9"/>
            <a:stretch/>
          </p:blipFill>
          <p:spPr>
            <a:xfrm>
              <a:off x="4932360" y="1413000"/>
              <a:ext cx="4119480" cy="45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932360" y="1413000"/>
              <a:ext cx="4105080" cy="453708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CE813-6C14-4D36-B96D-19AEC9F34E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ервисные механизмы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Групповая обработка элементов справочников и документов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Обмен документами по электронной почт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едусмотрена возможность отправки документов по электронной почте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редства разделения доступа к данным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едусмотрена возможность разделения доступа по рабочим местам (ролям) пользователей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034D4-4179-4BB4-9D7F-A46BBE57102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Новые возможности и преимущества «1С:Зарплата и Управление Персоналом 8» по сравнению с «1С:Зарплата и Кадры 7.7»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27280" y="5013360"/>
            <a:ext cx="48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пасибо за 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внимание!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едение учета нескольких организаций 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 единой базе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для каждой организации ведется своя информационная база данных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данные учета нескольких организаций «уживаются» в одной информационной базе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е требуется ввод совпадающих данных для каждой организации отдельно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SzPct val="11575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изические лица, сотрудники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SzPct val="11575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ачисления, удержания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SzPct val="11575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пособы отражения зарплаты в учете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SzPct val="11575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2771640" y="2637000"/>
            <a:ext cx="6193080" cy="3965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4859280" y="2637000"/>
            <a:ext cx="4032360" cy="3898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3348000" y="2589120"/>
            <a:ext cx="5616720" cy="400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FBE51-9B7A-40DB-BACF-6FF2F935E3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едение учета нескольких организаций 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 единой базе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возможно ведение учета нескольких организаций с различными системами налогообложения в одной базе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8000" y="3573360"/>
            <a:ext cx="3672000" cy="270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556000" y="2565360"/>
            <a:ext cx="3671640" cy="2705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364000" y="3573360"/>
            <a:ext cx="3600720" cy="2673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484360" y="3933720"/>
            <a:ext cx="3024360" cy="432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5445000"/>
            <a:ext cx="2737080" cy="3603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94BFA-871B-40DA-8C5C-4052C09493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лучение сводной кадровой аналитической отчетности для нескольких организаций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доступна сводная аналитическая информация о работниках всех организаций, учитываемых в единой базе данных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2492280"/>
            <a:ext cx="7307280" cy="434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484360" y="4057560"/>
            <a:ext cx="6659640" cy="2800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924360" y="2349360"/>
            <a:ext cx="4968720" cy="273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15805-25D2-47CB-8C07-8E625B0517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адровые документы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98064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не предусмотрены формы Т-54, Т-10а, Т-10, Т-7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реализованы все унифицированные формы по труду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122560" y="1989000"/>
            <a:ext cx="6697440" cy="4551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116000" y="2066760"/>
            <a:ext cx="6912000" cy="4530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0" y="2060640"/>
            <a:ext cx="4788000" cy="3728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924360" y="2895480"/>
            <a:ext cx="521964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D0F75-619F-410F-B1E9-111E2A0309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оинский учет работнико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предусмотрен ввод  данных о воинском учете в личную карточку работника формы Т-2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полностью автоматизирован воинский учет и формирование необходимой отчетност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арточка учета организации в военкомате (форма №18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несение о количестве граждан запаса (форма 11/МУ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тчет о численности работающих и забронированных граждан запаса (форма №6) и другие отчеты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1835280" y="3357720"/>
            <a:ext cx="5575320" cy="3438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1187280" y="3213000"/>
            <a:ext cx="6802560" cy="3119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1476360" y="2852640"/>
            <a:ext cx="6337440" cy="3837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3357720"/>
            <a:ext cx="20509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B3EFE-5A90-411F-9A08-62CC62D85A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Графики отпуско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8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автоматизированы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Регистрация графиков отпусков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Расчет остатков отпусков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87280" y="2421000"/>
            <a:ext cx="7129800" cy="4449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2124000" y="2978280"/>
            <a:ext cx="5184720" cy="34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9779D-2B27-42CA-8F6F-8C73773657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Учет использования рабочего времени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100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редусмотрены графики неполного рабочего времен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22160" indent="-19980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 сокращенной рабочей неделей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22160" indent="-19980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 неполным рабочим днем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716360" y="1125360"/>
            <a:ext cx="4172040" cy="549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69286-F8D1-4D4A-85B7-27BE59519C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4:02:24Z</dcterms:created>
  <dc:creator>0</dc:creator>
  <dc:description/>
  <dc:language>en-US</dc:language>
  <cp:lastModifiedBy>Баратынский Андрей</cp:lastModifiedBy>
  <dcterms:modified xsi:type="dcterms:W3CDTF">2008-12-29T12:19:41Z</dcterms:modified>
  <cp:revision>49</cp:revision>
  <dc:subject/>
  <dc:title>Слайд 1</dc:title>
</cp:coreProperties>
</file>